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F5D45-9F49-41ED-AA02-8E2817BD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8794-4FAF-4452-ACCA-37673A17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F4853-D2D2-4B0A-B568-DA61D22B0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308F7-2BF2-4B7B-A93E-54B03A39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F6B9-B7BC-45C2-8756-4E35E754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E1A3-48EA-4BD6-B32C-0DF18E58C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A116-873D-42E2-BFBC-59BCE040B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A5DC-62D4-460B-9E44-23520228E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BB573-B9E3-4DBB-82EA-213F922BE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444F-AD5D-407B-AD6C-56F6B75AE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4B87-50E0-4312-994B-BF14371A3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77B0-7C6F-4D3B-A394-D28273DEE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567C-F921-4BC0-9410-BAE4E96AA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tecedents of Anti-Semitism</a:t>
            </a:r>
            <a:endParaRPr b="0" lang="en-US" sz="2800" spc="-1" strike="noStrike">
              <a:solidFill>
                <a:srgbClr val="000000"/>
              </a:solidFill>
              <a:latin typeface="Arial"/>
            </a:endParaRPr>
          </a:p>
        </p:txBody>
      </p:sp>
      <p:sp>
        <p:nvSpPr>
          <p:cNvPr id="42" name="PlaceHolder 2"/>
          <p:cNvSpPr>
            <a:spLocks noGrp="1"/>
          </p:cNvSpPr>
          <p:nvPr>
            <p:ph type="subTitle"/>
          </p:nvPr>
        </p:nvSpPr>
        <p:spPr>
          <a:xfrm>
            <a:off x="2743200" y="914040"/>
            <a:ext cx="3733920" cy="5334120"/>
          </a:xfrm>
          <a:prstGeom prst="rect">
            <a:avLst/>
          </a:prstGeom>
          <a:solidFill>
            <a:srgbClr val="ffffff">
              <a:alpha val="47000"/>
            </a:srgbClr>
          </a:solidFill>
          <a:ln w="9360">
            <a:solidFill>
              <a:srgbClr val="ffffff"/>
            </a:solidFill>
            <a:miter/>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Essential Question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does one group become hated?</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were the Jews Hated?</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Anti-Judaism and how is it different then Anti-Semitism?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3" name="" descr=""/>
          <p:cNvPicPr/>
          <p:nvPr/>
        </p:nvPicPr>
        <p:blipFill>
          <a:blip r:embed="rId1">
            <a:alphaModFix amt="14000"/>
          </a:blip>
          <a:stretch/>
        </p:blipFill>
        <p:spPr>
          <a:xfrm>
            <a:off x="0" y="2057400"/>
            <a:ext cx="2743200" cy="4114800"/>
          </a:xfrm>
          <a:prstGeom prst="rect">
            <a:avLst/>
          </a:prstGeom>
          <a:ln w="9360">
            <a:solidFill>
              <a:srgbClr val="ffffff"/>
            </a:solidFill>
            <a:miter/>
          </a:ln>
        </p:spPr>
      </p:pic>
      <p:pic>
        <p:nvPicPr>
          <p:cNvPr id="44" name="" descr=""/>
          <p:cNvPicPr/>
          <p:nvPr/>
        </p:nvPicPr>
        <p:blipFill>
          <a:blip r:embed="rId2">
            <a:alphaModFix amt="14000"/>
          </a:blip>
          <a:stretch/>
        </p:blipFill>
        <p:spPr>
          <a:xfrm>
            <a:off x="6451560" y="2133720"/>
            <a:ext cx="2692440" cy="4038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hip and Jews Relationship with Christianity</a:t>
            </a:r>
            <a:br>
              <a:rPr sz="2400"/>
            </a:br>
            <a:r>
              <a:rPr b="0" lang="en-US" sz="2400" spc="-1" strike="noStrike">
                <a:solidFill>
                  <a:srgbClr val="000000"/>
                </a:solidFill>
                <a:latin typeface="Times New Roman"/>
                <a:ea typeface="Times New Roman"/>
              </a:rPr>
              <a:t>Christian Roots of Anti-Semitism: We and The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the Jew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er on 2 main Position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icide Charg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Jews seen as the Minority Other</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 descr=""/>
          <p:cNvPicPr/>
          <p:nvPr/>
        </p:nvPicPr>
        <p:blipFill>
          <a:blip r:embed="rId1"/>
          <a:stretch/>
        </p:blipFill>
        <p:spPr>
          <a:xfrm>
            <a:off x="5105520" y="2819520"/>
            <a:ext cx="2428920" cy="3733560"/>
          </a:xfrm>
          <a:prstGeom prst="rect">
            <a:avLst/>
          </a:prstGeom>
          <a:ln w="0">
            <a:noFill/>
          </a:ln>
        </p:spPr>
      </p:pic>
      <p:pic>
        <p:nvPicPr>
          <p:cNvPr id="48" name="" descr=""/>
          <p:cNvPicPr/>
          <p:nvPr/>
        </p:nvPicPr>
        <p:blipFill>
          <a:blip r:embed="rId2"/>
          <a:stretch/>
        </p:blipFill>
        <p:spPr>
          <a:xfrm>
            <a:off x="838080" y="2819520"/>
            <a:ext cx="242892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did the church teach?  Who killed Jes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Jesus died the followers thought of themselves as a Jewish Sec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 CE The Gospel of Mark was written dow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k 15:12-15 </a:t>
            </a:r>
            <a:r>
              <a:rPr b="0" lang="he-IL"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New International Version</a:t>
            </a:r>
            <a:r>
              <a:rPr b="0" lang="he-IL"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What shall I do, then, with the one you call the king of the Jews?" Pilate asked them. 13"Crucify him!" they shouted. 14"Why? What crime has he committed?" asked Pilate.  But they shouted all the louder, "Crucify him!"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5 CE The Gospel of Mathew is written down and records the charge of Deici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hew is competing against the Pharisees (the Rabbis) for followers so he  engaged in Polemics against them in the form of the Deicide.  The Rabbis were portrayed as betrayers and hypocrit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thew 26:4-5 </a:t>
            </a:r>
            <a:r>
              <a:rPr b="0" lang="he-IL"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New International Version</a:t>
            </a:r>
            <a:r>
              <a:rPr b="0" lang="he-IL"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nd they plotted to arrest Jesus in some sly way and kill him. 5"But not during th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ast," they said, "or there may be a riot among the peop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7520040" y="0"/>
            <a:ext cx="16239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the Deicide charge?  </a:t>
            </a:r>
            <a:endParaRPr b="0" lang="en-US" sz="2000" spc="-1" strike="noStrike">
              <a:solidFill>
                <a:srgbClr val="000000"/>
              </a:solidFill>
              <a:latin typeface="Arial"/>
            </a:endParaRPr>
          </a:p>
        </p:txBody>
      </p:sp>
      <p:sp>
        <p:nvSpPr>
          <p:cNvPr id="53"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Christian Gospel portray the Jews as seeking the death of Jesus.  It was not until 167 CE that any church leader actively promoted the charge that of Deicide (Christ Kill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harge comes out of an attempt for Christians to align with Ro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300 CE over 60 million people inhabited the Roman Empir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million Christians and 3 million Jew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first Jews were treated better by the authorities because they were an older relig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Constantine in 312 CE on his way to fight his final battle to secure his Imperial rule had a vision of a cross in the Sun.  He has his soldiers painted crosses on his soldiers uniforms and were the first army in history to march under the symbol of the cro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antine after winning the battle changed his relationship to the church on his death bed he converted making Christianity an institution.  In 325 CE the Council of Nicea adopts the cross as primary symbol for Christianity eliminating tolerance for Jews and Jews becomes the other who killed G-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edieval Jewish Experience</a:t>
            </a:r>
            <a:endParaRPr b="0" lang="en-US" sz="2000" spc="-1" strike="noStrike">
              <a:solidFill>
                <a:srgbClr val="000000"/>
              </a:solidFill>
              <a:latin typeface="Arial"/>
            </a:endParaRPr>
          </a:p>
        </p:txBody>
      </p:sp>
      <p:sp>
        <p:nvSpPr>
          <p:cNvPr id="56"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609480" indent="-60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Geopolitical life under the rule of Christianity</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Dispersed and exiled people living in the Diaspora.   see map</a:t>
            </a:r>
            <a:endParaRPr b="0" lang="en-US" sz="20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ocio-legal</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lien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 Excerpt of the early legal decrees passed against Jews in the Empire.</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Corporate-collective identity</a:t>
            </a:r>
            <a:endParaRPr b="0" lang="en-US" sz="20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Christian Anti-Judaism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hn Chrysostom: Judaism and Christianity as mutually exclusive</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here Christ-killers gather, the cross is ridiculed, God blasphemed, the Father</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acknowledged, the Son insulted, the grace of the Spirit rejected... In a word, if you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mire the Jewish way of life, what do you have in common with us?  If the Jewish</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tes are holy and venerable, our way of life must be false.  But if our way is true, as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eed it is, their is fraudulen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gustine’s Witness Theory - &gt; De Humanization -&gt; Blood Libel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7473960" y="0"/>
            <a:ext cx="1670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752400"/>
            <a:ext cx="5029200" cy="588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int Augustine's Witness Theory</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by bodily death shall the ungodly race of carnal Jews perish. . . . To the end of the seven days of time, the continued preservation of the Jews will be a proof to believing Christians of the subjection merited by those who, in the pride of their kingdom, put the Lord to death. . . . 'And the Lord God set a mark upon Cain, lest any one finding him should slay him.' . . . Only when a Jew comes over to Christ, he is no longer Cain. </a:t>
            </a:r>
            <a:br>
              <a:rPr sz="2000"/>
            </a:br>
            <a:br>
              <a:rPr sz="2000"/>
            </a:br>
            <a:r>
              <a:rPr b="1" lang="en-US" sz="1800" spc="-1" strike="noStrike">
                <a:solidFill>
                  <a:srgbClr val="000000"/>
                </a:solidFill>
                <a:latin typeface="Times New Roman"/>
                <a:ea typeface="Times New Roman"/>
              </a:rPr>
              <a:t>---Augustine, "Reply to Faustus, the Manichaean," in F. E. Talmage, ed., Disputation and Dialogue ( New York: Ktav and the Anti-Defamation League, 1975), 31.</a:t>
            </a:r>
            <a:endParaRPr b="0" lang="en-US" sz="1800" spc="-1" strike="noStrike">
              <a:solidFill>
                <a:srgbClr val="000000"/>
              </a:solidFill>
              <a:latin typeface="Arial"/>
            </a:endParaRPr>
          </a:p>
        </p:txBody>
      </p:sp>
      <p:sp>
        <p:nvSpPr>
          <p:cNvPr id="59" name=""/>
          <p:cNvSpPr/>
          <p:nvPr/>
        </p:nvSpPr>
        <p:spPr>
          <a:xfrm>
            <a:off x="5181480" y="508680"/>
            <a:ext cx="342900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his Commentary on Psalm 58-59, Augustine wrote: </a:t>
            </a:r>
            <a:br>
              <a:rPr sz="1600"/>
            </a:b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Jews have been scattered throughout all nations as witnesses to their own sin and to our truth. They themselves hold the writings that have prophesied Christ. If a pagan doubts Christ, we can prove his Messiahship because he was predicted in the writings of the Jews themselves a long time ago. And so by means of one enemy [the Jews] we confound another enemy [the pagans]. 'Scatter them abroad, take away their strength. And bring them down O Lord' (Ver. 12).</a:t>
            </a:r>
            <a:endParaRPr b="0" lang="en-US" sz="1800" spc="-1" strike="noStrike">
              <a:solidFill>
                <a:srgbClr val="000000"/>
              </a:solidFill>
              <a:latin typeface="Arial"/>
            </a:endParaRPr>
          </a:p>
        </p:txBody>
      </p:sp>
      <p:sp>
        <p:nvSpPr>
          <p:cNvPr id="60" name=""/>
          <p:cNvSpPr/>
          <p:nvPr/>
        </p:nvSpPr>
        <p:spPr>
          <a:xfrm>
            <a:off x="7126560" y="0"/>
            <a:ext cx="201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cacentre.org/Augustine.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5943600" cy="6615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eudal System and Usury Lead to further Persecution and Expuls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udal Economic Syste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s -&gt; Nobles -&gt; Knights -&gt; Serf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s were not apart of this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not freeman or serf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laws and custo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mming back to th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man Emp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Jewish communities w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the system and were directly founded by charters from individual kings. For the economic benefit of the King.</a:t>
            </a:r>
            <a:endParaRPr b="0" lang="en-US" sz="1800" spc="-1" strike="noStrike">
              <a:solidFill>
                <a:srgbClr val="000000"/>
              </a:solidFill>
              <a:latin typeface="Arial"/>
            </a:endParaRPr>
          </a:p>
        </p:txBody>
      </p:sp>
      <p:pic>
        <p:nvPicPr>
          <p:cNvPr id="62" name="" descr=""/>
          <p:cNvPicPr/>
          <p:nvPr/>
        </p:nvPicPr>
        <p:blipFill>
          <a:blip r:embed="rId1"/>
          <a:stretch/>
        </p:blipFill>
        <p:spPr>
          <a:xfrm>
            <a:off x="6607080" y="0"/>
            <a:ext cx="2536920" cy="6858000"/>
          </a:xfrm>
          <a:prstGeom prst="rect">
            <a:avLst/>
          </a:prstGeom>
          <a:ln w="0">
            <a:noFill/>
          </a:ln>
        </p:spPr>
      </p:pic>
      <p:sp>
        <p:nvSpPr>
          <p:cNvPr id="63" name=""/>
          <p:cNvSpPr/>
          <p:nvPr/>
        </p:nvSpPr>
        <p:spPr>
          <a:xfrm>
            <a:off x="3505320" y="914400"/>
            <a:ext cx="3200400" cy="4876920"/>
          </a:xfrm>
          <a:prstGeom prst="wedgeEllipseCallout">
            <a:avLst>
              <a:gd name="adj1" fmla="val 57291"/>
              <a:gd name="adj2" fmla="val -43782"/>
            </a:avLst>
          </a:prstGeom>
          <a:noFill/>
          <a:ln w="9360">
            <a:solidFill>
              <a:srgbClr val="000000"/>
            </a:solidFill>
            <a:miter/>
          </a:ln>
        </p:spPr>
        <p:style>
          <a:lnRef idx="0"/>
          <a:fillRef idx="0"/>
          <a:effectRef idx="0"/>
          <a:fontRef idx="minor"/>
        </p:style>
        <p:txBody>
          <a:bodyPr lIns="18360" rIns="183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ers allowed for the establishment of ghettos for the Jews to settle in which were usually in the heart of the city. Kings would borrow money from Jews and levy special taxes and ransoms in order to wage wars and live beyond their m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4920"/>
            <a:ext cx="9144000" cy="678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8:01:55Z</dcterms:created>
  <dc:creator>Tammy Zoppo</dc:creator>
  <dc:description/>
  <dc:language>en-US</dc:language>
  <cp:lastModifiedBy>Damian</cp:lastModifiedBy>
  <dcterms:modified xsi:type="dcterms:W3CDTF">2010-04-12T16:26:21Z</dcterms:modified>
  <cp:revision>10</cp:revision>
  <dc:subject/>
  <dc:title>Antecedents of Anti-Semitism</dc:title>
</cp:coreProperties>
</file>